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BF9-AA85-4DC7-B917-4CEC3261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E44-4D89-4DD2-81B5-0C270BCF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9F3-23F7-4CE9-931D-9540BF26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F3E-AE92-4FC3-912D-3E4F8D1C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2A6-2C5C-49AE-AC22-EC5F8D33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2C0-5ECD-432B-A9C2-80E7669B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758-68C9-4BC0-9889-C2995EA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10A-2740-4BA9-83EC-7865038F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AB4-8DF2-4040-B196-194E4EC8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A77-B094-4BC2-92F7-D9CC8D63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59A-BD57-4D0C-AD55-EE09AA09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57F-D640-4FF0-A500-2591DB2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C91D-B29B-4536-B991-DFDB3380B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екови који делују на респираторни систем у трудноћ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 лакт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мпликациј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ца се рађају пре терм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ња порођајна теж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онатални морталитет повећ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гиналне хемора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с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дукован и компликован порођа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т мајке (обично услед тензионог пнеумоторак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руднице са тешким обликом астме могу имати нормалну трудноћу и нормалан порођ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мају чешће спонтане побачаје у односу на здраве трудниц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ца из ових трудноћа немају учесталије конгениталне малформациј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тицај трудноће на аст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уднице са благом или умереном астмом имају побољшање тока астме у последњем ромесечј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 више од једне трећине ово побољшање је праћено мањим или већим погоршањем после порођај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ене са тежим облицима астме могу имати више проблема у трудноћ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 астме код исте болеснице је најчешће идентичан у понављаним трудноћа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чење астме у трудноћ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мпакомиме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икокортикои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офилински препа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имарна превенција у аст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дукација труд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унопрофилакса и имуно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ј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а новорођен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егавање алергена у кућ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ергени животињске дла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ергени бубашва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ен и буђ у атмосф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уђ у затвореном просто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ек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шењ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дукација труд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етовати труднице како да се хран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ину о свом здрављу и избегавају штетне навике (дуван, каф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ирати порођај у време смањене концетрације алерге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ојењ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учити мајке о значају дојења до навршеног 8-ог месеца старости детета и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ти крајњи хидролизат крављег млека за исхрану новорођенч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схрана новорођенче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рсту храну увести 4-ог месе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е, рибу, орах, кикирики тек после дванаестог месе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збегавање алергена у кућ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ти постељину и прекриваче једном недељ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ти специјалну постељину (навлаке за јастуке и душек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менити намештај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 потреби уклонити тепихе, пре свега у спаваћој соби уколико је дете преосетљиво на алергене кућне прашин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лергени животињске дла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лонити животиње из куће и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 спаваће собе уколико је дете преосетљиво на животињску дла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072040" y="333360"/>
            <a:ext cx="3786120" cy="20239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cto homini et erudito vivere est cogit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xtremis malis extrema remed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лергени бубашва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истити кућу често и темељ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ти инсектици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лен и буђ у атмосфер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творити прозоре и врата и остати у кући када је концетрација полена и буђи у ваздуху вис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 време започети лечење инфекције горњих и доњих дисајних путе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нити мере превенције за појаву инфекциј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ушењ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етовати пацијента, као и родитеље оболеле деце како да прекину са пушењем цигар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онити се дуванског ди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екундарна превенција у аст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бе са генетском предиспозициј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бе под ризиком (радно мест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обе са генетском предиспозицијо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о пратити децу из породица у којима оба родитеља болују од астме или неког другог алергијског обољења плућ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о тражити особе под ризик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обе под ризиком (радно мест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кожне преосетљивости и одређивање укупног и специфичног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g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ерцијарна превенција у аст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дукација пациј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чка а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егавање алерг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егавање 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тивна медикаментозна 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фична имунотерап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дукација пацијен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ознати пацијента са природом боле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кторима ризика за настанак погоршањ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учити га како правилно да користи инхалациону терапију и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peak-flow met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хватити разлику између лекова за брзо отклањање симптома и лекова за дуготрајну превенциј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чка активно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етовати пацијента да не избегава физичку а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ву симптома да спречи инхалацијама кратко делујућих бета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гониста или натријум-кромогликатом пре интезивног физичког напо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5072040" y="333360"/>
            <a:ext cx="3786120" cy="23814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Ученом и образованом човеку живети значи мислити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У крајњој опасности и крајња средств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мунопрофилакса и имун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кцинација против грипа се препоручује трудницама са хроничном астмом и може се изводити током 2 и 3 тромесечја трудноћ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фична имунотерапија се такође сматра безбедном код болесница код којих је већ била у то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унотерапију не би требало отпочињати у трудноћи због ризика од анафилактичког ш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чење акутног погоршања астме у трудноћ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чности које садрже глуко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алирање раствора бета2 агон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бкутано давање бета2 агон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равенски метилпреднизол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пратропијум бром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ерапија у току порођа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алирање бета2-агон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равенски теоф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равенски или интрамускуларно хидрокортиз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ојењ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 који се користе у терапији астме ретко су штетни за де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 би у млеку била најнижа концетрација лека, мајке које доје могу узети било који неопходан лек 15 минута после подо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кови које треба избегавати у трудница и дојиљ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спи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та адренергички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парати који садрже ј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стероидни антиинфламаторн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тагланд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ептомицин и канамиц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лфонами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трациклини и остали лекови који мугу бити штетни за пл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ЕРАПИЈА ТУБЕРКУЛОЗЕ У ТРУДНОЋ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нтитуберкулотици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категорија ризика 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“В”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“С”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јихова примена (изузев стрептомицина) током трудноће не повећава инциденцу конгениталних аномалија, мртворођености или превремених порођаја у односу на општу популаци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к избора за лечење туберкулозе у трудноћи је изониазид у комбинацији са рифампицином и етамбутол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су контраиндиковани у периоду лактац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 дужој употреби изониазида препоручују се периодични прегледи одојчета у односу на симптоме периферног неуритиса или хепатити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во тромесечје 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ептомицин контраиндиков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БК позитивне – рифампицин + изониазид + етамбутол (пиразинами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БК негативне – чекати до четвртог месеца трудноће, пратити. Међутим уколико су промене врло егзистентне са активном туберкулозом, може се започети лече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руго тромесечје 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 нема посебних проблема дати рифампицин + изониазид + етамбуто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еће тромесечје 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фампицин + изониазид + етамбут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ини ризик је иктер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тити и укупан билирубин једампут у 10 д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олоко постоји биохемијски поремећај у крви, треба обуставити изониаз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екови за лечење респираторног система - трудно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тегорија Б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омолин натриј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пратропиум бром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бута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нтелук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докром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фирлукаст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тегорија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бутер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кломета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удесон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лунизол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лутика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апротерен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лметер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офи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илеу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чење туберкулозе код жена које до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и лекови против ТБ могу се узимати истовремено са дојење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јка и одојче треба да остану зајед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ојче треба хранити дојењем на уобичајен начи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ојче треба да прими профилаксу изониазидом, а 2-3 месеца касније и вакцину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BC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ГЛИКОКОРТИКОИ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 трудноћ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икују у способности проласка кроз плацентарну баријер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низолон се 88% инактивише приликом проласка кроз плаценту, дексаметазон и бетаметазон пролазе лако непромењ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е се системски у трудноћи само ако користи од њихове примене у мајке превазилази ризик од штетних дејстава на фет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жа системска примена у трудноћи носи ризик од застоја интраутериног рас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пресија надбубрежне жлезде у новорођенчета обићно спонтано пролаз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 дојењ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 примене дозе од 4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низолона, мала количина лека доспева у млеко и сматра се да није од клиничког значаја за дојенч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ће дозе могу да супримирају надбубрежну жлезду дојенч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љке и чајеви – безбедни у лактациј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љ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ли л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умб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н-ш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лерија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Чаје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ми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до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ипура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3286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ИНФЕКЦИЈЕ ГОРЊИХ РЕСПИРАТОРНИХ ПУТЕВА У ТРУДНОЋ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атегорија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зата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лорфенамин (хлрорфенирам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хистаминик избора у трудноћи (седација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лемаст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прохептад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фенхидрамин  (дименхидрин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 високим дозама окситоцину-слични ефек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ксилам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рата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кли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рацетам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бупроф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тегорија Д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 трећем триместру или близу порођ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рокс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тегорија Д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 трећем триместру или близу порођ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атегорија 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кстрометорф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нзона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е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дрокодо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надр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ти у првом тримест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сеудоефедр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 бити повезан са настанком гастросх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ти у првом тримест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мфенирамин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дрокси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та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тириз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ксофенад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АСТМА И ТРУДНО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Епидемиолошки пода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чешћи медицински проблем који може компликовати трудноћ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-5% трудница болује од аст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0% трудница има неки алергијски поремећај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ене оболеле од астме обично имају погоршања непосредно пре и за време менструалног циклу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нтролисана астма може имати штетан утицај како на трудницу тако и на пло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6-09-04T10:35:22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